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D66-3AE3-4EF6-83A9-EADB6283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248-234C-4791-84A1-D13AA534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AC8-E1C5-46E9-ABE7-AE5E939D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CEF-BE87-41D6-B4C3-5AACECD4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B0C2-A2DE-4886-928A-526FB451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015-6096-4E4C-8025-7F6B3AB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6C6-765C-4E16-A6C0-B1EDEC5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73D-14DC-4993-97DC-E41EBD11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E99-05E7-486B-ACFF-23D69BEF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DC45-5C12-472F-A121-E5E70F6D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135-BE59-4FAB-9C42-D02B620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269-2CBF-44AD-A338-31AC24D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565C-C5EA-4E57-8BB3-73DB8CC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EEBC-E641-473B-9258-2BBECD2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C078-57EB-47FA-8F5E-868B8E05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1C8-E2B2-47C3-B6DD-654302CF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5AC8-6DDC-4586-8EB7-069A8F1D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CA91-2586-4F5F-A14B-E951AEC5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D889-5419-486A-A32F-5CD32B1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E5B8-E2C4-4077-AF18-31025D2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8906-0052-4552-BA72-D8CC65C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E4FE-4ACC-4AFF-9E9D-D0DDAC66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4A3-8E70-472B-BD29-90254E9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08B4-5A04-49D5-A70A-5E860AF3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3622-6906-4BE8-9898-38D34E1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7EF6-0C6B-44BA-8B35-21213A9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7796-D46C-422D-AE1C-1940298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BDDB-3F79-452D-B0B5-2DFEBF1C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5F04-6A01-4EDA-91EC-5FFFB402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01DE-39A7-4CEE-ACAE-8D4E5946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145A-9F60-4F3D-8C1F-04EED0EA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9532-5326-4DC2-9997-99381F9B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D589-66D3-4E34-9694-8C599C7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D5C-DEE6-433E-879C-B1C7F322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00911-E7A2-4773-8D22-EA8D7CF5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EEA5-2D08-41B0-86A2-A995A40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03DF-F19A-4E73-AEAF-C2031D4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47F3-CA0D-4708-9A33-53FF103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01D7-CF83-43D0-A91A-07F26AE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0ED8-37BF-4BC9-87A1-9B50E4D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D875-588D-421C-9B4C-BEDB0D7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CA10-8D1F-4D68-AAB3-19367098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79E5-350C-4E09-8B84-7D93AE07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D7A-B76D-450A-A4FF-74A6C755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EBF-5918-4FB3-8B7A-C8EE682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82E-936E-42C9-8276-EC185923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929-8EA8-4AE6-A0F7-99F1B18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2A1-D3FA-4114-A977-16A83F3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C75-1001-411F-8EE6-7531FBE988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F1A-169D-4EB9-886C-78D034DA69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194-4960-4F5D-A18B-BEE93651D3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EB0-E3E5-4637-B778-1ED405EFD1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campus.com/fsitehomeshellc.cfm?id=61947&amp;rt=8&amp;view=&amp;sms=home&amp;xsite=annemancl&amp;nocache=130126740017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rcampus.com/EPortfoliohomeshellc.cfm?xsite=lcpage11.W6903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20908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ffany Harre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lden Univers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M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904760"/>
            <a:ext cx="8458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rning Management Systems, also known as course management systems, are collaborative learning environments where teachers and students ca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gage within an online communit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age courses and student wor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ep an online portfolio of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t goals and create assessments using rubr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municate online through websites by students, faculty, and group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ive or provide tutoring and support in lea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e have reinvented the educational delivery system with the end user-students- in mind, using tools, content, and teaching strategies that help students develop critical thinking skills, build global awareness, and gain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entury skills” (Young, Birtolo, &amp; McElman, 2009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4" descr="hands.gif"/>
          <p:cNvPicPr/>
          <p:nvPr/>
        </p:nvPicPr>
        <p:blipFill>
          <a:blip r:embed="rId1"/>
          <a:stretch/>
        </p:blipFill>
        <p:spPr>
          <a:xfrm>
            <a:off x="228600" y="1447920"/>
            <a:ext cx="3967200" cy="238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web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web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ult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tor ro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studentcomputers.jpg"/>
          <p:cNvPicPr/>
          <p:nvPr/>
        </p:nvPicPr>
        <p:blipFill>
          <a:blip r:embed="rId2"/>
          <a:stretch/>
        </p:blipFill>
        <p:spPr>
          <a:xfrm>
            <a:off x="457200" y="388620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assroo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60020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websi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assignments and resources for cour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online tests and quizz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 grad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reports based on student results for future instr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campus Classroom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rcampus.com/fsitehomeshellc.cfm?id=61947&amp;rt=8&amp;view=&amp;sms=home&amp;xsite=annemancl&amp;nocache=1301267400178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Content Placeholder 5" descr="Grade_charts_reflect.jpg"/>
          <p:cNvPicPr/>
          <p:nvPr/>
        </p:nvPicPr>
        <p:blipFill>
          <a:blip r:embed="rId2"/>
          <a:stretch/>
        </p:blipFill>
        <p:spPr>
          <a:xfrm>
            <a:off x="5410080" y="1523880"/>
            <a:ext cx="29512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rtfol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ortfolio Buil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submission of assignments to teacher gradeb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ltimedia upload capabi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ion board for reviews and eval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endar to track activities and progr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-long ownership for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Campus ePortfolio: </a:t>
            </a:r>
            <a:r>
              <a:rPr b="0" lang="en-US" sz="17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rcampus.com/EPortfoliohomeshellc.cfm?xsite=lcpage11.W69038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br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by subject, type, and grad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, manage, share, and print rubr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2Grade Technology into gradebo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assessment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Link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Content Placeholder 4" descr="Rubric_Collaborate_sm.gif"/>
          <p:cNvPicPr/>
          <p:nvPr/>
        </p:nvPicPr>
        <p:blipFill>
          <a:blip r:embed="rId1"/>
          <a:stretch/>
        </p:blipFill>
        <p:spPr>
          <a:xfrm>
            <a:off x="4952880" y="1981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Rubric_Coursework_sm.gif"/>
          <p:cNvPicPr/>
          <p:nvPr/>
        </p:nvPicPr>
        <p:blipFill>
          <a:blip r:embed="rId2"/>
          <a:stretch/>
        </p:blipFill>
        <p:spPr>
          <a:xfrm>
            <a:off x="4897440" y="4267080"/>
            <a:ext cx="4246560" cy="1514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iRubric, Point and Click"/>
          <p:cNvPicPr/>
          <p:nvPr/>
        </p:nvPicPr>
        <p:blipFill>
          <a:blip r:embed="rId3"/>
          <a:stretch/>
        </p:blipFill>
        <p:spPr>
          <a:xfrm>
            <a:off x="1066680" y="5562720"/>
            <a:ext cx="24386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udent, Faculty, and Group Websi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2952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RCampus Club Websit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nstantia"/>
              </a:rPr>
              <a:t>http://www.rcampus.com/clubhomeshellc.cfm?id=61294&amp;rt=5&amp;view=&amp;sms=home&amp;xsite=ohioelite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RCampus Faculty Group Websit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nstantia"/>
              </a:rPr>
              <a:t>http://www.rcampus.com/sighomeshellc.cfm?id=64570&amp;rt=6&amp;view=&amp;sms=home&amp;xsite=pestech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age websites that can be created by students, classes, school groups, and faculty group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 and enhance the features we are currently provided with through Infinite Campus and School Str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496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toring and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066320"/>
            <a:ext cx="3048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 tutoring 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a tu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 a tutor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tor room buil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9450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ng, J., Birtolo, P., &amp; McElman, R. (2009). Virtual success: Transforming education through online learning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earning &amp; Leading with Technology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3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5), 12–1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20:25Z</dcterms:created>
  <dc:creator>MZE</dc:creator>
  <dc:description/>
  <dc:language>en-US</dc:language>
  <cp:lastModifiedBy>MZE</cp:lastModifiedBy>
  <dcterms:modified xsi:type="dcterms:W3CDTF">2011-03-28T01:05:23Z</dcterms:modified>
  <cp:revision>36</cp:revision>
  <dc:subject/>
  <dc:title>Learning Management Systems</dc:title>
</cp:coreProperties>
</file>